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95810-E192-4CAD-9479-851622EAD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D1C9C-51D2-4E79-9ED0-4E11D7803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27B5D-0BF8-42E7-97BD-6E5AA6282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E3E1A-8434-4354-B115-0142F9C76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68DCA-7CB9-4379-9141-01F42BAC91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4DCCB-BC6F-4E59-95A9-F7D2B9C063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9B2A2-397F-48AA-B3E2-C05E6AD1D9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51646-B7E9-4188-9A9E-432151CCB2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4B7D1-E702-4EA5-A578-1DA954DFA4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41FD8-733E-49B2-9E61-B2291A1F11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75808-0A60-454F-9FDA-8BDE129AA2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4DB35-82E8-43B8-ACD4-3B1CFDF58A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2D637-B0D1-4FD0-B2A5-87509A47F1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5923F-9013-47CF-A1CA-4EA544593F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ED188-FBD3-4DC3-A2AA-6B67EC752A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55FB1-0D34-43D5-B679-95BFD7217E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7C560-999B-4CAF-94F9-86E5CDC27C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AE8CA-725A-4A95-90AA-FEA6E891ED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945CA-8A15-45F4-8A95-A3D15FF2A4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0185D-5D25-490D-8FAB-AF08CAA3ED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for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laborator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12_essentials"/>
          <p:cNvPicPr/>
          <p:nvPr/>
        </p:nvPicPr>
        <p:blipFill>
          <a:blip r:embed="rId1"/>
          <a:stretch/>
        </p:blipFill>
        <p:spPr>
          <a:xfrm>
            <a:off x="1295280" y="2743200"/>
            <a:ext cx="3063960" cy="320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5D7B4-65D9-419C-AFCE-457E803383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C9C3E-A5DF-4B31-A283-253A7393B1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iciency testing schemes (PTS) are interlaboratory comparisons that are organized regularly to assess the performance of analytical laboratories and the competence of the analytical personnel.”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F53B5-D055-498B-9BFD-3AC35D391B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8DB31-0512-45A3-8094-34188697A4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3716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in which multiple samples are periodically sent to members of a group of laboratories for analysis and/or identification; whereby each laboratory’s results are compared with those of other laboratories in the group and/or with an assigned value, and reported to the participating laboratories and oth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B3406-D5C8-4632-88EF-D02F0B0098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28600" y="1066680"/>
            <a:ext cx="373392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T organization /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84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9"/>
          <p:cNvSpPr/>
          <p:nvPr/>
        </p:nvSpPr>
        <p:spPr>
          <a:xfrm flipV="1">
            <a:off x="1183320" y="2184120"/>
            <a:ext cx="4418280" cy="57312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90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97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304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PT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312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39"/>
          <p:cNvSpPr/>
          <p:nvPr/>
        </p:nvSpPr>
        <p:spPr>
          <a:xfrm>
            <a:off x="662940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urn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129528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sample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sent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655308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319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4419720" y="58672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Correctiv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ocument"/>
          <p:cNvSpPr/>
          <p:nvPr/>
        </p:nvSpPr>
        <p:spPr>
          <a:xfrm>
            <a:off x="4419720" y="441972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70309-2E3C-432E-B837-663DC026A0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DB984-C6E2-4E6E-ACD6-16F94AD4FF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332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334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26"/>
          <p:cNvCxnSpPr>
            <a:stCxn id="338" idx="2"/>
            <a:endCxn id="340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Text Box 30"/>
          <p:cNvSpPr/>
          <p:nvPr/>
        </p:nvSpPr>
        <p:spPr>
          <a:xfrm>
            <a:off x="1406520" y="53928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ussion between l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: Roles of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inal P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por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347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348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351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648320" y="3657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ze same manner with sa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9"/>
          <p:cNvSpPr/>
          <p:nvPr/>
        </p:nvSpPr>
        <p:spPr>
          <a:xfrm>
            <a:off x="464832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0"/>
          <p:cNvSpPr/>
          <p:nvPr/>
        </p:nvSpPr>
        <p:spPr>
          <a:xfrm>
            <a:off x="640080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64F0A-22B8-43D5-B07C-00CC8A1BDB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609480"/>
            <a:ext cx="8229600" cy="4768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nformation received from PT participation must be directed toward improvement in the laboratory to receive the full 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5"/>
          <p:cNvSpPr/>
          <p:nvPr/>
        </p:nvSpPr>
        <p:spPr>
          <a:xfrm>
            <a:off x="4572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44B14-07AE-4565-94F2-8D49C9FC6E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33520" y="13716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results are affected by variables not related to patient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will not detect all problems in the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may not detect problems with pre- and post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PT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DB6A1-C46D-4D5D-A061-B022CA76D4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Other EQA Methods</a:t>
            </a:r>
            <a:br>
              <a:rPr sz="32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hecking/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82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5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ferenc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iphera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89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91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94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97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400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03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404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07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408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411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414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417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7AFA2-E932-44FC-A140-DB9D71E6EF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3ED5C-A5F0-4374-8146-91C697B47B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ed by reference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ed on dried blood spots or se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bli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arily used to assess HIV rapid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3CC4B-91B0-4445-A96C-F57501132E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5CCBE-4CE2-4E6A-B6F9-4C569015BD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checking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must be collected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systematic sampling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ve discrepa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AF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41720" cy="199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_crop"/>
          <p:cNvPicPr/>
          <p:nvPr/>
        </p:nvPicPr>
        <p:blipFill>
          <a:blip r:embed="rId2"/>
          <a:stretch/>
        </p:blipFill>
        <p:spPr>
          <a:xfrm>
            <a:off x="6705720" y="3276720"/>
            <a:ext cx="1923840" cy="3008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26"/>
          <p:cNvSpPr/>
          <p:nvPr/>
        </p:nvSpPr>
        <p:spPr>
          <a:xfrm>
            <a:off x="5334120" y="49528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4E65-301D-429E-B3CD-80538054DB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E18F6-ABB5-436D-83F7-3A5DABD458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8F1FB-7481-4F83-844C-669BBA796C2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an EQA program in improving the quality of laboratory test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at least three EQA methods and the advantages and disadvantages of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e a method to investigate an unacceptable test result from an EQA s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BC1C0-21D3-4A57-9FF1-92761BF9E0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85A99-4D80-4BDA-9593-A4333300DA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parison of rechecking non-blinded and random blinded smears for acid-fast bacilli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09480" y="1752480"/>
          <a:ext cx="8153640" cy="390996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438640"/>
              </a:tblGrid>
              <a:tr h="13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ance characteristics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linded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blinded sampl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BBAB8-B1A9-47BA-8B91-CA033376C5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n-site Evalu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04920" y="1219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btain a realistic picture of labora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ssistance with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9"/>
          <p:cNvSpPr/>
          <p:nvPr/>
        </p:nvSpPr>
        <p:spPr>
          <a:xfrm>
            <a:off x="304920" y="5791320"/>
            <a:ext cx="441936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group or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4648320" y="4419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eriodic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81DE-8E56-43F1-B524-44915FF70F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FB Microscopy </a:t>
            </a:r>
            <a:r>
              <a:rPr b="0" lang="en-US" sz="2400" spc="-1" strike="noStrike">
                <a:solidFill>
                  <a:srgbClr val="00007d"/>
                </a:solidFill>
                <a:latin typeface="Verdana"/>
              </a:rPr>
              <a:t>Comparison of performance before and after on-site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monitoring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533520" y="1712880"/>
          <a:ext cx="8229600" cy="407052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6765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and 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contamination of sputum c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isinfec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biohazard waste bin (cove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ab c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ists do not wash h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ge of lab re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sputum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filling of laboratory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labeling slides/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1"/>
          <p:cNvSpPr/>
          <p:nvPr/>
        </p:nvSpPr>
        <p:spPr>
          <a:xfrm>
            <a:off x="53352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716440" y="129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FOR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3152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712A-CFB2-44C8-B626-D2A281DEEA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9DF4F-613E-4435-8253-920DC92228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宋体"/>
              </a:rPr>
              <a:t>Proficiency Testing and Rechecking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1741320"/>
          <a:ext cx="8153640" cy="4054680"/>
        </p:xfrm>
        <a:graphic>
          <a:graphicData uri="http://schemas.openxmlformats.org/drawingml/2006/table">
            <a:tbl>
              <a:tblPr/>
              <a:tblGrid>
                <a:gridCol w="3353040"/>
                <a:gridCol w="2184120"/>
                <a:gridCol w="2616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erlaboratory 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imulated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al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/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me and resources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nalytes evalu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0D25C-3C2B-473E-86FC-1745F9D4BE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01FB9-CB36-4CD9-91F1-9E36BD79A5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Participa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men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ll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d by I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75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77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94D76-081E-43E6-B7C9-C1F594041F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Management Process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e and analyze EQA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 EQA samples same as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and 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 corrective action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A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rot="16200000">
            <a:off x="3390840" y="51429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161B8-7BCA-48DE-B6F4-A96E3A1749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1A57B-B77D-4628-90BA-643CD362FA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EQA performance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248520" y="1371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e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st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AD1DF-40AA-440C-80DC-4357EC356C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B4E17-D865-48EF-AC70-7082CF304E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5638680" y="1371600"/>
            <a:ext cx="3200400" cy="327672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rr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30C13-9CAD-4CF6-B03B-9EE062343C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6037C-A909-474D-A94A-88AFA2C8DF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system for objectively checking the laboratory’s performance using an 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participate in EQ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methods of EQA i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amples must be treated the same as patient samp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1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4306B-395B-49AD-B670-8CFF8AC491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CCCF9-8A53-4223-914D-A8801792CD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uses valuable resources, make best possibl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not be puni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be viewed as educa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can help direct improvement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critical element of a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B5F8D-5A53-425C-B304-4CA7824EF3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B5A8B-AD72-44B4-9202-4A9ABA9E90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0BAA6-844B-4A51-8C9A-53AAE03A71A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newly appoi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 supervis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 begun revie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st EQA results, and observes poor Gram stain performanc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How should the laboratory investigate this problem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bd07156_"/>
          <p:cNvPicPr/>
          <p:nvPr/>
        </p:nvPicPr>
        <p:blipFill>
          <a:blip r:embed="rId1"/>
          <a:stretch/>
        </p:blipFill>
        <p:spPr>
          <a:xfrm>
            <a:off x="5943600" y="533520"/>
            <a:ext cx="26557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9A62-D933-40DC-BD61-35C8B28C69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EBA37-9F69-496B-918B-6B4DB842B6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7" name="Group 192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528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543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544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545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550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553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554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23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559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28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564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32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568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35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571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241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577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44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580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7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583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2536C-78CE-4879-A4AE-F694B377C9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EC652-78FB-4212-97D3-610A4262FE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2133720" y="1143000"/>
            <a:ext cx="5105160" cy="4800600"/>
            <a:chOff x="2133720" y="1143000"/>
            <a:chExt cx="5105160" cy="4800600"/>
          </a:xfrm>
        </p:grpSpPr>
        <p:sp>
          <p:nvSpPr>
            <p:cNvPr id="158" name="AutoShape 4"/>
            <p:cNvSpPr/>
            <p:nvPr/>
          </p:nvSpPr>
          <p:spPr>
            <a:xfrm>
              <a:off x="2133720" y="1143000"/>
              <a:ext cx="5105160" cy="480060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4345200" y="3669840"/>
              <a:ext cx="118800" cy="64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3000240" y="3100320"/>
              <a:ext cx="165600" cy="101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989080" y="3044160"/>
              <a:ext cx="168480" cy="352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4748760" y="5585760"/>
              <a:ext cx="10800" cy="410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4490640" y="4545720"/>
              <a:ext cx="1440" cy="92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6262560" y="1733760"/>
              <a:ext cx="1440" cy="3637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4686120" y="1875240"/>
              <a:ext cx="144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034440" y="1919160"/>
              <a:ext cx="108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2734200" y="177660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5"/>
            <p:cNvGrpSpPr/>
            <p:nvPr/>
          </p:nvGrpSpPr>
          <p:grpSpPr>
            <a:xfrm>
              <a:off x="2433600" y="1225080"/>
              <a:ext cx="1243080" cy="1055880"/>
              <a:chOff x="2433600" y="1225080"/>
              <a:chExt cx="1243080" cy="1055880"/>
            </a:xfrm>
          </p:grpSpPr>
          <p:grpSp>
            <p:nvGrpSpPr>
              <p:cNvPr id="173" name="Group 66"/>
              <p:cNvGrpSpPr/>
              <p:nvPr/>
            </p:nvGrpSpPr>
            <p:grpSpPr>
              <a:xfrm>
                <a:off x="2433600" y="1225080"/>
                <a:ext cx="1220760" cy="1055880"/>
                <a:chOff x="2433600" y="1225080"/>
                <a:chExt cx="1220760" cy="1055880"/>
              </a:xfrm>
            </p:grpSpPr>
            <p:grpSp>
              <p:nvGrpSpPr>
                <p:cNvPr id="174" name="Group 67"/>
                <p:cNvGrpSpPr/>
                <p:nvPr/>
              </p:nvGrpSpPr>
              <p:grpSpPr>
                <a:xfrm>
                  <a:off x="2484360" y="1225080"/>
                  <a:ext cx="1135440" cy="1055880"/>
                  <a:chOff x="2484360" y="1225080"/>
                  <a:chExt cx="1135440" cy="1055880"/>
                </a:xfrm>
              </p:grpSpPr>
              <p:sp>
                <p:nvSpPr>
                  <p:cNvPr id="175" name="Freeform 68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9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Text Box 70"/>
                <p:cNvSpPr/>
                <p:nvPr/>
              </p:nvSpPr>
              <p:spPr>
                <a:xfrm>
                  <a:off x="2433600" y="1468440"/>
                  <a:ext cx="1220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71"/>
              <p:cNvSpPr/>
              <p:nvPr/>
            </p:nvSpPr>
            <p:spPr>
              <a:xfrm>
                <a:off x="2455920" y="159948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4065120" y="1225080"/>
              <a:ext cx="1221480" cy="1055880"/>
              <a:chOff x="4065120" y="1225080"/>
              <a:chExt cx="1221480" cy="1055880"/>
            </a:xfrm>
          </p:grpSpPr>
          <p:sp>
            <p:nvSpPr>
              <p:cNvPr id="180" name="Freeform 73"/>
              <p:cNvSpPr/>
              <p:nvPr/>
            </p:nvSpPr>
            <p:spPr>
              <a:xfrm>
                <a:off x="4105440" y="1225080"/>
                <a:ext cx="1136160" cy="105588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4065120" y="159948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5"/>
            <p:cNvGrpSpPr/>
            <p:nvPr/>
          </p:nvGrpSpPr>
          <p:grpSpPr>
            <a:xfrm>
              <a:off x="5641920" y="1225080"/>
              <a:ext cx="1221480" cy="1055880"/>
              <a:chOff x="5641920" y="1225080"/>
              <a:chExt cx="1221480" cy="1055880"/>
            </a:xfrm>
          </p:grpSpPr>
          <p:grpSp>
            <p:nvGrpSpPr>
              <p:cNvPr id="183" name="Group 76"/>
              <p:cNvGrpSpPr/>
              <p:nvPr/>
            </p:nvGrpSpPr>
            <p:grpSpPr>
              <a:xfrm>
                <a:off x="5686560" y="1225080"/>
                <a:ext cx="1136160" cy="1055880"/>
                <a:chOff x="5686560" y="1225080"/>
                <a:chExt cx="1136160" cy="1055880"/>
              </a:xfrm>
            </p:grpSpPr>
            <p:sp>
              <p:nvSpPr>
                <p:cNvPr id="184" name="Freeform 77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78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79"/>
              <p:cNvSpPr/>
              <p:nvPr/>
            </p:nvSpPr>
            <p:spPr>
              <a:xfrm>
                <a:off x="5641920" y="16034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27"/>
            <p:cNvSpPr/>
            <p:nvPr/>
          </p:nvSpPr>
          <p:spPr>
            <a:xfrm flipH="1">
              <a:off x="2809080" y="29768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5"/>
            <p:cNvGrpSpPr/>
            <p:nvPr/>
          </p:nvGrpSpPr>
          <p:grpSpPr>
            <a:xfrm>
              <a:off x="2433600" y="2413440"/>
              <a:ext cx="1223280" cy="1055880"/>
              <a:chOff x="2433600" y="2413440"/>
              <a:chExt cx="1223280" cy="1055880"/>
            </a:xfrm>
          </p:grpSpPr>
          <p:sp>
            <p:nvSpPr>
              <p:cNvPr id="189" name="Freeform 46"/>
              <p:cNvSpPr/>
              <p:nvPr/>
            </p:nvSpPr>
            <p:spPr>
              <a:xfrm>
                <a:off x="2437920" y="2413440"/>
                <a:ext cx="11386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7"/>
              <p:cNvSpPr/>
              <p:nvPr/>
            </p:nvSpPr>
            <p:spPr>
              <a:xfrm>
                <a:off x="2433600" y="266616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31"/>
            <p:cNvSpPr/>
            <p:nvPr/>
          </p:nvSpPr>
          <p:spPr>
            <a:xfrm>
              <a:off x="4113360" y="2469240"/>
              <a:ext cx="113544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4152960" y="248400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5586840" y="2429640"/>
              <a:ext cx="1316880" cy="1055880"/>
              <a:chOff x="5586840" y="2429640"/>
              <a:chExt cx="1316880" cy="1055880"/>
            </a:xfrm>
          </p:grpSpPr>
          <p:sp>
            <p:nvSpPr>
              <p:cNvPr id="194" name="Freeform 48"/>
              <p:cNvSpPr/>
              <p:nvPr/>
            </p:nvSpPr>
            <p:spPr>
              <a:xfrm>
                <a:off x="5661720" y="242964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5"/>
              <p:cNvSpPr/>
              <p:nvPr/>
            </p:nvSpPr>
            <p:spPr>
              <a:xfrm>
                <a:off x="5586840" y="269568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 flipH="1">
              <a:off x="2734200" y="41079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4"/>
            <p:cNvGrpSpPr/>
            <p:nvPr/>
          </p:nvGrpSpPr>
          <p:grpSpPr>
            <a:xfrm>
              <a:off x="2433600" y="3619800"/>
              <a:ext cx="1221480" cy="1056960"/>
              <a:chOff x="2433600" y="3619800"/>
              <a:chExt cx="1221480" cy="1056960"/>
            </a:xfrm>
          </p:grpSpPr>
          <p:sp>
            <p:nvSpPr>
              <p:cNvPr id="198" name="Freeform 81"/>
              <p:cNvSpPr/>
              <p:nvPr/>
            </p:nvSpPr>
            <p:spPr>
              <a:xfrm>
                <a:off x="2464920" y="3619800"/>
                <a:ext cx="113652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2"/>
              <p:cNvSpPr/>
              <p:nvPr/>
            </p:nvSpPr>
            <p:spPr>
              <a:xfrm>
                <a:off x="2433600" y="382536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4065120" y="3619800"/>
              <a:ext cx="1221480" cy="1056960"/>
              <a:chOff x="4065120" y="3619800"/>
              <a:chExt cx="1221480" cy="1056960"/>
            </a:xfrm>
          </p:grpSpPr>
          <p:sp>
            <p:nvSpPr>
              <p:cNvPr id="201" name="Freeform 30"/>
              <p:cNvSpPr/>
              <p:nvPr/>
            </p:nvSpPr>
            <p:spPr>
              <a:xfrm>
                <a:off x="4091400" y="3619800"/>
                <a:ext cx="113688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4"/>
              <p:cNvSpPr/>
              <p:nvPr/>
            </p:nvSpPr>
            <p:spPr>
              <a:xfrm>
                <a:off x="4065120" y="384156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0"/>
            <p:cNvSpPr/>
            <p:nvPr/>
          </p:nvSpPr>
          <p:spPr>
            <a:xfrm>
              <a:off x="5662080" y="3613680"/>
              <a:ext cx="113688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641920" y="368424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2809080" y="53067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358720" y="4816800"/>
              <a:ext cx="1399320" cy="1055880"/>
              <a:chOff x="2358720" y="4816800"/>
              <a:chExt cx="1399320" cy="1055880"/>
            </a:xfrm>
          </p:grpSpPr>
          <p:sp>
            <p:nvSpPr>
              <p:cNvPr id="207" name="Freeform 57"/>
              <p:cNvSpPr/>
              <p:nvPr/>
            </p:nvSpPr>
            <p:spPr>
              <a:xfrm>
                <a:off x="2505240" y="4816800"/>
                <a:ext cx="113544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8"/>
              <p:cNvSpPr/>
              <p:nvPr/>
            </p:nvSpPr>
            <p:spPr>
              <a:xfrm>
                <a:off x="2358720" y="50252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065120" y="4756320"/>
              <a:ext cx="1221480" cy="1056240"/>
              <a:chOff x="4065120" y="4756320"/>
              <a:chExt cx="1221480" cy="1056240"/>
            </a:xfrm>
          </p:grpSpPr>
          <p:sp>
            <p:nvSpPr>
              <p:cNvPr id="210" name="Freeform 34"/>
              <p:cNvSpPr/>
              <p:nvPr/>
            </p:nvSpPr>
            <p:spPr>
              <a:xfrm>
                <a:off x="4113000" y="4756320"/>
                <a:ext cx="1135440" cy="1056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61"/>
              <p:cNvSpPr/>
              <p:nvPr/>
            </p:nvSpPr>
            <p:spPr>
              <a:xfrm>
                <a:off x="4065120" y="50252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9"/>
            <p:cNvGrpSpPr/>
            <p:nvPr/>
          </p:nvGrpSpPr>
          <p:grpSpPr>
            <a:xfrm>
              <a:off x="5662080" y="4816800"/>
              <a:ext cx="1221480" cy="1055880"/>
              <a:chOff x="5662080" y="4816800"/>
              <a:chExt cx="1221480" cy="1055880"/>
            </a:xfrm>
          </p:grpSpPr>
          <p:sp>
            <p:nvSpPr>
              <p:cNvPr id="213" name="Freeform 63"/>
              <p:cNvSpPr/>
              <p:nvPr/>
            </p:nvSpPr>
            <p:spPr>
              <a:xfrm>
                <a:off x="5680800" y="481680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64"/>
              <p:cNvSpPr/>
              <p:nvPr/>
            </p:nvSpPr>
            <p:spPr>
              <a:xfrm>
                <a:off x="5662080" y="50252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9D0D2-7472-4CB5-8CEF-AD681069CA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ternal Quality Assessm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ystem for objectively checking the laboratory’s performance using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54155-5220-44AA-B5A2-3C418D79A6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39D5D-83E5-4E2C-8701-A8BE4D5E50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8228880" cy="3885120"/>
            <a:chOff x="457200" y="1371600"/>
            <a:chExt cx="8228880" cy="3885120"/>
          </a:xfrm>
        </p:grpSpPr>
        <p:cxnSp>
          <p:nvCxnSpPr>
            <p:cNvPr id="222" name="_s205839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622840" y="187344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838"/>
            <p:cNvCxnSpPr>
              <a:stCxn id="226" idx="0"/>
              <a:endCxn id="224" idx="2"/>
            </p:cNvCxnSpPr>
            <p:nvPr/>
          </p:nvCxnSpPr>
          <p:spPr>
            <a:xfrm flipV="1">
              <a:off x="4571280" y="292536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37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742480" y="187380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833"/>
            <p:cNvSpPr/>
            <p:nvPr/>
          </p:nvSpPr>
          <p:spPr>
            <a:xfrm>
              <a:off x="3337200" y="1371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EQA </a:t>
              </a:r>
              <a:br>
                <a:rPr sz="3600"/>
              </a:b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Metho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834"/>
            <p:cNvSpPr/>
            <p:nvPr/>
          </p:nvSpPr>
          <p:spPr>
            <a:xfrm>
              <a:off x="45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Proficiency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Te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835"/>
            <p:cNvSpPr/>
            <p:nvPr/>
          </p:nvSpPr>
          <p:spPr>
            <a:xfrm>
              <a:off x="333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checking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testing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36"/>
            <p:cNvSpPr/>
            <p:nvPr/>
          </p:nvSpPr>
          <p:spPr>
            <a:xfrm>
              <a:off x="621756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On-site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CFFC5-DCDA-4140-872A-6B6EC3A669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557F2-94B6-40B2-8F0F-23391E5C8B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Quality Assessment (EQA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80880" y="1873080"/>
            <a:ext cx="83822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 among different tes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warning for systemic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 evidence of tes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that need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MCBS01691_0000[1]"/>
          <p:cNvPicPr/>
          <p:nvPr/>
        </p:nvPicPr>
        <p:blipFill>
          <a:blip r:embed="rId1"/>
          <a:stretch/>
        </p:blipFill>
        <p:spPr>
          <a:xfrm>
            <a:off x="58672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492FE-EBEF-4FCE-9FE8-F1288498F4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Benef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29200" y="1295280"/>
            <a:ext cx="358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ublic Health orient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768B2-A182-49D4-82B9-F7643AF3B7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DECE2-D6E0-49BD-8D56-4160D1A944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4520" y="609480"/>
            <a:ext cx="7913880" cy="5756400"/>
            <a:chOff x="614520" y="609480"/>
            <a:chExt cx="7913880" cy="5756400"/>
          </a:xfrm>
        </p:grpSpPr>
        <p:sp>
          <p:nvSpPr>
            <p:cNvPr id="246" name="_s207939"/>
            <p:cNvSpPr/>
            <p:nvPr/>
          </p:nvSpPr>
          <p:spPr>
            <a:xfrm flipH="1" flipV="1">
              <a:off x="2666880" y="276696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7938"/>
            <p:cNvSpPr/>
            <p:nvPr/>
          </p:nvSpPr>
          <p:spPr>
            <a:xfrm>
              <a:off x="614520" y="168660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cognition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Edu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7937"/>
            <p:cNvSpPr/>
            <p:nvPr/>
          </p:nvSpPr>
          <p:spPr>
            <a:xfrm flipH="1">
              <a:off x="266688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7936"/>
            <p:cNvSpPr/>
            <p:nvPr/>
          </p:nvSpPr>
          <p:spPr>
            <a:xfrm>
              <a:off x="61452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Mono / mult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7935"/>
            <p:cNvSpPr/>
            <p:nvPr/>
          </p:nvSpPr>
          <p:spPr>
            <a:xfrm>
              <a:off x="4571640" y="4206240"/>
              <a:ext cx="0" cy="72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7934"/>
            <p:cNvSpPr/>
            <p:nvPr/>
          </p:nvSpPr>
          <p:spPr>
            <a:xfrm>
              <a:off x="3472200" y="4926600"/>
              <a:ext cx="219888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g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Nat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Internati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7932"/>
            <p:cNvSpPr/>
            <p:nvPr/>
          </p:nvSpPr>
          <p:spPr>
            <a:xfrm>
              <a:off x="552456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7931"/>
            <p:cNvSpPr/>
            <p:nvPr/>
          </p:nvSpPr>
          <p:spPr>
            <a:xfrm>
              <a:off x="632880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Obligatory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volunt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7930"/>
            <p:cNvSpPr/>
            <p:nvPr/>
          </p:nvSpPr>
          <p:spPr>
            <a:xfrm flipV="1">
              <a:off x="5524560" y="2769120"/>
              <a:ext cx="951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7929"/>
            <p:cNvSpPr/>
            <p:nvPr/>
          </p:nvSpPr>
          <p:spPr>
            <a:xfrm>
              <a:off x="6328800" y="168912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Free / not fre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7928"/>
            <p:cNvSpPr/>
            <p:nvPr/>
          </p:nvSpPr>
          <p:spPr>
            <a:xfrm flipV="1">
              <a:off x="4571640" y="2049120"/>
              <a:ext cx="0" cy="7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7927"/>
            <p:cNvSpPr/>
            <p:nvPr/>
          </p:nvSpPr>
          <p:spPr>
            <a:xfrm>
              <a:off x="3472200" y="60948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Confidenti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7926"/>
            <p:cNvSpPr/>
            <p:nvPr/>
          </p:nvSpPr>
          <p:spPr>
            <a:xfrm>
              <a:off x="3472200" y="276912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Verdana"/>
                </a:rPr>
                <a:t>EQ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7:25Z</dcterms:modified>
  <cp:revision>3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